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B179-C2E0-4A29-B092-46D60478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C4F-A76A-4250-AC81-81CB181A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E19-94D0-474E-B0B2-D5C7A127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BF1-E7C5-4164-B034-0A2B205C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5AE4-5A83-4DE7-B923-28D377A4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C1C9-C27E-4FFF-817A-059C0D0D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5AA2-1849-48F6-8E36-E7FEAEF5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B1F4-F7C1-47C9-AA77-67D89D73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428E-67AA-4740-B475-894B25AA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833F-FC80-474B-A3DA-D1900B9C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C2C8-AAA2-4522-B1AD-33EBD147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3FF-CEB4-49DE-B062-353F5A81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4EF9-9247-4970-A7FE-383EAAFF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0F75-7459-4C81-8BBD-75041F43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36FB-6ED7-4F8E-871E-55F37F89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224C-1138-48A6-8CD4-311DBCF8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BCE6-77F9-486A-AFF2-9F2922E3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485-52B7-4D18-BA0E-9B23F963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F85-5CD4-4B61-A5ED-6962AB3B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7850-92D0-4F5A-9A1B-C9CDD901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579-4F7B-438D-A5A0-1FD65E76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563-2C23-4529-AC84-BD6B9C00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DE6-DD82-4712-BF48-BECC7B8B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09A-C64E-40CF-9908-DE3C9DC1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C7ED-DBE7-4262-A7D7-052C97F6403D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CAFB-75A3-4D33-B06B-F0F9CADC3918}" type="slidenum">
              <a:rPr b="0" lang="tr-TR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0DF0-AD60-4743-A29E-622D77719C2D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898A-6AE9-4A6B-BCDA-35A2B23BD886}" type="slidenum">
              <a:rPr b="0" lang="tr-TR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Georgia"/>
              </a:rPr>
              <a:t>BİLİMSEL ARAŞTIRMA YÖNTEMLERİ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 Narrow"/>
              </a:rPr>
              <a:t>Prof. Dr. Mustafa Ergü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 Narrow"/>
              </a:rPr>
              <a:t>AKÜ - Eğitim Fakültes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2743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ir anket maddesinin taşıması gereken özellikler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(devam)</a:t>
            </a:r>
            <a:br>
              <a:rPr sz="3600"/>
            </a:br>
            <a:br>
              <a:rPr sz="3600"/>
            </a:b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irli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 olma: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r s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oruda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bir fikir üzerinde odaklanın. Her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adde bir tek davranış, tavır, fikir, olay ya da konu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le ilgili olmalıdır. Bunun için “ve”, “ya da” gibi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ğlaçları kullanmayı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ir anket maddesinin taşıması gereken özellikler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(devam)</a:t>
            </a:r>
            <a:br>
              <a:rPr sz="3600"/>
            </a:br>
            <a:br>
              <a:rPr sz="3600"/>
            </a:b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*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çık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 olma: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İnsanları ne sorulduğunu tahmin etmeye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zorlamayın. İfadenizin herkes tarafından aynı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şekilde anlaşıldığından emin olun. Eğer gerekliyse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k açıklamalar yapı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vap Formatının Seçim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Anketler genelde</a:t>
            </a:r>
            <a:r>
              <a:rPr b="1" lang="tr-TR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insanların bir ifadeye ne kadar katıldıklarını, bir</a:t>
            </a:r>
            <a:r>
              <a:rPr b="1" lang="tr-TR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şeyin ne kadar önemli olduğunu yada bir şeyin ne</a:t>
            </a:r>
            <a:r>
              <a:rPr b="1" lang="tr-TR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sıklıkla yapıldığını öğrenmeye yöneliktir. </a:t>
            </a:r>
            <a:r>
              <a:rPr b="1" lang="tr-TR" sz="3600" spc="-1" strike="noStrike">
                <a:solidFill>
                  <a:srgbClr val="ffffcc"/>
                </a:solidFill>
                <a:latin typeface="Arial"/>
              </a:rPr>
              <a:t>Anket cevaplarında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kullanılabilecek bazı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evap formatları</a:t>
            </a:r>
            <a:r>
              <a:rPr b="1" lang="tr-TR" sz="36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recelendirme ölçekleri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nketlerde genelde ürün ya da hizmetlerin belirli</a:t>
            </a: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r ölçeğe göre derecelendirilmeleri istenir. Bazı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nketlerde ise insanlara verilen ifadelere ne kadar</a:t>
            </a: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katıldıkları ya da katılmadıkları sorulur.</a:t>
            </a: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00"/>
                </a:solidFill>
                <a:latin typeface="Times New Roman"/>
              </a:rPr>
              <a:t>Likert tipi cevaplamada “Tamamen katılıyorum”dan “hiç katılmıyorum”a veya “önemli”den “önemsiz”e veya “çok acıyor”dan “hiç acımıyor”a cevap derecelemeleri kullanılır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KESİNLİKLE KATILMIYORUM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 KATILMIYORUM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 KARARSIZIM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 KATILIYORUM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 KESİNLİKLE KATILIYORUM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HİÇ TATMİN OLMADIM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 TATMİN OLMADIM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 KARARSIZIM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 TATMİN OLDUM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 ÇOK TATMİN OLDUM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ÇOK KÖTÜ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 KÖTÜ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 ORTA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 İYİ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 ÇOK İYİ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recelendirme ölçeklerini hazırlarken uç</a:t>
            </a:r>
            <a:r>
              <a:rPr b="1" lang="tr-TR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oktaların zıt anlamda olduklarından emin olun</a:t>
            </a:r>
            <a:r>
              <a:rPr b="1" lang="tr-TR" sz="4000" spc="-1" strike="noStrike">
                <a:solidFill>
                  <a:srgbClr val="ffff00"/>
                </a:solidFill>
                <a:latin typeface="Times New Roman"/>
              </a:rPr>
              <a:t> (yoksa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ketten alınan yanıtlar</a:t>
            </a:r>
            <a:r>
              <a:rPr b="1" lang="tr-TR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raflı ol</a:t>
            </a:r>
            <a:r>
              <a:rPr b="1" lang="tr-TR" sz="4000" spc="-1" strike="noStrike">
                <a:solidFill>
                  <a:srgbClr val="ffff00"/>
                </a:solidFill>
                <a:latin typeface="Times New Roman"/>
              </a:rPr>
              <a:t>ur)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 Örneğin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GENELDE TATMİNKAR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 TAMAMIYLA TATMİNKAR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 SON DERECE TATMİNKAR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 MÜKEMM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ddeleri sıralamak</a:t>
            </a:r>
            <a:br>
              <a:rPr sz="4000"/>
            </a:br>
            <a:r>
              <a:rPr b="0" lang="tr-TR" sz="2800" spc="-1" strike="noStrike">
                <a:solidFill>
                  <a:srgbClr val="ffffcc"/>
                </a:solidFill>
                <a:latin typeface="Arial"/>
              </a:rPr>
              <a:t>Başk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bir cevap formatı, bir seçenek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esindeki maddeleri farklı kriterlere (örnek: önemderecesi) göre sıralamalarını istemektir. Örneğin</a:t>
            </a:r>
            <a:r>
              <a:rPr b="0" lang="tr-TR" sz="28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ütfen aşağıdaki 5 iyileştirme ama</a:t>
            </a:r>
            <a:r>
              <a:rPr b="0" lang="tr-TR" sz="2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ını önem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ırasına göre </a:t>
            </a:r>
            <a:r>
              <a:rPr b="0" lang="tr-TR" sz="2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1” en önemliyi, “5” en önemsizi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msil edecek şekilde</a:t>
            </a:r>
            <a:r>
              <a:rPr b="0" lang="tr-TR" sz="28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ıralayınız.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___ ÇABUK BAŞARI ELDE ETMEK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___ ÜRETİMİN MİKTARINI ARTTIRMAK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___ FİYATLARI DÜŞÜRMEK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___ BİRİKEN İŞ SAYISINI AZALTMAK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___ HATA MİKTARINI DÜŞÜRM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ercihleri belirlemek</a:t>
            </a:r>
            <a:r>
              <a:rPr b="1" lang="tr-TR" sz="4000" spc="-1" strike="noStrike">
                <a:solidFill>
                  <a:srgbClr val="ffff00"/>
                </a:solidFill>
                <a:latin typeface="Arial"/>
              </a:rPr>
              <a:t> (çoktan seçmeli)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u</a:t>
            </a:r>
            <a:r>
              <a:rPr b="0" lang="tr-TR" sz="3200" spc="-1" strike="noStrike">
                <a:solidFill>
                  <a:srgbClr val="ffff00"/>
                </a:solidFill>
                <a:latin typeface="Times New Roman"/>
              </a:rPr>
              <a:t>rad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ifade ya da tercihlerden oluşanbir liste</a:t>
            </a:r>
            <a:r>
              <a:rPr b="0" lang="tr-TR" sz="3200" spc="-1" strike="noStrike">
                <a:solidFill>
                  <a:srgbClr val="ffff00"/>
                </a:solidFill>
                <a:latin typeface="Times New Roman"/>
              </a:rPr>
              <a:t>den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ygun olan tercihleri yuvarlak içine alarak</a:t>
            </a:r>
            <a:r>
              <a:rPr b="0" lang="tr-T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şaretlemeleri istenir. </a:t>
            </a:r>
            <a:r>
              <a:rPr b="0" lang="tr-TR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tr-T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ür soruların cevaplandırılması, sıralama</a:t>
            </a:r>
            <a:r>
              <a:rPr b="0" lang="tr-T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rularından daha kolaydı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Yorumlar ve açık uçlu sorular</a:t>
            </a:r>
            <a:br>
              <a:rPr sz="3200"/>
            </a:br>
            <a:br>
              <a:rPr sz="3200"/>
            </a:b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Baze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kete katılanların ek yorumla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ına ihtiyaç duyulabilir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Bu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rada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vaplayıcılara, kendileri için önemli olanları ve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tediklerini kendi cümleleriyle yazabilmeleri içinboş bir alan bırakılır.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Kendimizi nasıl geliştirebileceğimiz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onusunda önerileriniz var mı?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Ekleme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stediğiniz 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başka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bir husus var mı?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 bilgiler hiç dokunulmamış konuları ortaya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çıkarmak için çok yararlıdır. 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Ancak bu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rulara verilen cevaplarıyorumlama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çok zo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du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057040"/>
            <a:ext cx="71769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ffff00"/>
                </a:solidFill>
                <a:latin typeface="Times New Roman"/>
              </a:rPr>
              <a:t>Anket</a:t>
            </a:r>
            <a:br>
              <a:rPr sz="8800"/>
            </a:br>
            <a:r>
              <a:rPr b="1" lang="tr-TR" sz="4800" spc="-1" strike="noStrike">
                <a:solidFill>
                  <a:srgbClr val="ffff00"/>
                </a:solidFill>
                <a:latin typeface="Times New Roman"/>
              </a:rPr>
              <a:t>yoluyla bilgi toplama 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llecting Primary Data Through 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Questionnaire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mografik sorular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(kişisel sorular)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ografik sorular genelde katılımcıları sınıf, yaş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a da eğitim seviyesi gibi kriterlere dayalı olarak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ha küçük ve özellikli gruplara ayırmak için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ullanılır. Eğer anketin amaçlarından birisi iki farklı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ubun verdiği yanıtlar arasındaki önemli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rklılıkları belirlemek ise bu ayrıştırma önemlidir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cak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ografik soruların cevaplayıcıların kimliğini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taya çıkartacak olması onların kendilerini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hatsız hissetmelerine ve dürüst cevap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memelerine yol açabilir. 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Burad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ndişeleri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zaltmak için, anket cevaplarının nasıl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ullanılacağını anlatan bir açıklama ve cevapların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izliliğini içeren bir taahhüt yararlı olabili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ddelerin Gözden Geçirilmesi</a:t>
            </a:r>
            <a:br>
              <a:rPr sz="3600"/>
            </a:b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Hazırladığınız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ru maddeleri ve cevap formatlarını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şağıdaki özelliklere uyup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ymadıklarını inceleyin.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_x0001_ anketin amacına uygun</a:t>
            </a:r>
            <a:r>
              <a:rPr b="1" lang="tr-TR" sz="2400" spc="-1" strike="noStrike">
                <a:solidFill>
                  <a:srgbClr val="ffffcc"/>
                </a:solidFill>
                <a:latin typeface="Arial"/>
              </a:rPr>
              <a:t> mu?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kette yer alan her bir soru için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özel bir nedeniniz olduğundan emin olun. Her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aman anketin amacına ve bu amacı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tekleyecek bilgi çeşidine odaklanın.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_x0001_ anket yapılan bireyler için uygun</a:t>
            </a:r>
            <a:r>
              <a:rPr b="1" lang="tr-TR" sz="2400" spc="-1" strike="noStrike">
                <a:solidFill>
                  <a:srgbClr val="ffffcc"/>
                </a:solidFill>
                <a:latin typeface="Arial"/>
              </a:rPr>
              <a:t> mu?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kete insanların bilmedikleri, cevapveremeyecekleri maddeleri eklemeyin.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_x0001_ uygun sonuçlar sağlayabilecek yetenekte</a:t>
            </a:r>
            <a:r>
              <a:rPr b="1" lang="tr-TR" sz="2400" spc="-1" strike="noStrike">
                <a:solidFill>
                  <a:srgbClr val="ffffcc"/>
                </a:solidFill>
                <a:latin typeface="Arial"/>
              </a:rPr>
              <a:t> mi?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de edilen verileri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, araştırmacını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htiyaç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yduğu nitelikteki bilgiyi sağlamalıdı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Anket soruları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şağıdakiler gibi olma</a:t>
            </a: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sın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_x0001_ belirsiz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anlış yorumlanabilecek kelime ve ifadelerden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açının.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_x0001_ çakışan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irbiri ile çakışan cevap seçeneklerini vermekten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açının.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_x0001_ Yönlendiren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İnsanları, arzuladığınız cevaplara yönlendirecek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puçları vermekten kaçının.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_x0001_ Çift taraflı olan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ynı madde içerisinde iki ayrı konu olmamasına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kkat edin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ketin Girişi ve Talimatları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ketler genelde, anketin amacını ve verilerin nasıl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ullanılacağını anlatan kısa bir giriş paragrafı ile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şlar. Giriş paragrafını, anketin nasıl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ldurulacağını anlatan kısa kurallar takip eder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Özellikle ankette demografik maddeler mevcutsa,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sanlara güven vermek için, verecekleri yanıtların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izli kalacağına dair bir ifade bu bölümde yer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malıdır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Anketin Test Edilmesi</a:t>
            </a:r>
            <a:br>
              <a:rPr sz="40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slak bir anket hazırladıktan sonra, anketi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liştirmek ve muhtemel hataları belirlemek için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st edebilirsiniz. Test, anket geniş kitlelere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ğıtmadan önce, güvenilirlik ve geçerliliğinden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min olmak için yapılır. Test genelde büyük grubu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msil eden daha küçük bir gruba uygulanır. 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Burad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lamı açık olmayan sorular,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ksik 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ve yanlış sorular belirlenir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ffff00"/>
                </a:solidFill>
                <a:latin typeface="Arial"/>
              </a:rPr>
              <a:t> Uzman kanısına başvurulu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00"/>
                </a:solidFill>
                <a:latin typeface="Times New Roman"/>
              </a:rPr>
              <a:t>Anketle veriler nasıl toplanır? </a:t>
            </a:r>
            <a:br>
              <a:rPr sz="4800"/>
            </a:br>
            <a:r>
              <a:rPr b="0" lang="tr-TR" sz="4800" spc="-1" strike="noStrike">
                <a:solidFill>
                  <a:srgbClr val="ffffcc"/>
                </a:solidFill>
                <a:latin typeface="Arial"/>
              </a:rPr>
              <a:t>1- posta, </a:t>
            </a:r>
            <a:br>
              <a:rPr sz="4800"/>
            </a:br>
            <a:r>
              <a:rPr b="0" lang="tr-TR" sz="4800" spc="-1" strike="noStrike">
                <a:solidFill>
                  <a:srgbClr val="ffffcc"/>
                </a:solidFill>
                <a:latin typeface="Arial"/>
              </a:rPr>
              <a:t>2- telefon, </a:t>
            </a:r>
            <a:br>
              <a:rPr sz="4800"/>
            </a:br>
            <a:r>
              <a:rPr b="0" lang="tr-TR" sz="4800" spc="-1" strike="noStrike">
                <a:solidFill>
                  <a:srgbClr val="ffffcc"/>
                </a:solidFill>
                <a:latin typeface="Arial"/>
              </a:rPr>
              <a:t>3- yüzyüze görüşme </a:t>
            </a:r>
            <a:br>
              <a:rPr sz="4800"/>
            </a:br>
            <a:r>
              <a:rPr b="0" lang="tr-TR" sz="4800" spc="-1" strike="noStrike">
                <a:solidFill>
                  <a:srgbClr val="ffffcc"/>
                </a:solidFill>
                <a:latin typeface="Arial"/>
              </a:rPr>
              <a:t>4- interne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ket Sonuçlarının Özetlenmesi</a:t>
            </a:r>
            <a:br>
              <a:rPr sz="4400"/>
            </a:br>
            <a:br>
              <a:rPr sz="2400"/>
            </a:b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keti uyguladıktan sonra sonra, sonuçları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özetlemeli, analiz etmeli ve yorumlamalısınız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rekans dağılımları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 dağılımlar, anket sorularına verilen cevapların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asitçe sayılması ve gruplandırılması ile elde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dilebilir. Frekans dağılımları kolay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yorumlanabilmeleri için genelde tablolar ya da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rafik barlar halinde sunulurlar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ket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ilgilerini düzenlemenin bir yolu da ankete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atılanları sınıflar halinde düşünmektir.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ınıflandırma, katılımcıları, benzer özelliklerine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yanarak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ruplandırmaktır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ket Sonuçlarının Özetlenmesi</a:t>
            </a:r>
            <a:br>
              <a:rPr sz="4400"/>
            </a:br>
            <a:br>
              <a:rPr sz="2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üzdeler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ket verilerini özetlemenin en basit yollarından</a:t>
            </a:r>
            <a:r>
              <a:rPr b="0" lang="tr-TR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risi de yüzdelerdir. Yüzdeler tablolar, grafik barlar ya da pasta</a:t>
            </a:r>
            <a:r>
              <a:rPr b="0" lang="tr-TR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yagram yardımı ile gösterilir.</a:t>
            </a:r>
            <a:br>
              <a:rPr sz="3200"/>
            </a:br>
            <a:br>
              <a:rPr sz="3200"/>
            </a:br>
            <a:r>
              <a:rPr b="0" lang="tr-TR" sz="3200" spc="-1" strike="noStrike">
                <a:solidFill>
                  <a:srgbClr val="ffffcc"/>
                </a:solidFill>
                <a:latin typeface="Arial"/>
              </a:rPr>
              <a:t>Diğer istatistiksel yöntemler: T testi, F testi (ANOVA), korelasyon, regresyon vs.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8351640" cy="45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Verdana"/>
              </a:rPr>
              <a:t>Pınar Ünsal. </a:t>
            </a:r>
            <a:r>
              <a:rPr b="1" lang="tr-TR" sz="4400" spc="-1" strike="noStrike">
                <a:solidFill>
                  <a:srgbClr val="ffff00"/>
                </a:solidFill>
                <a:latin typeface="Verdana"/>
              </a:rPr>
              <a:t>Örgütsel Araştırmalarda Anket Yöntemi</a:t>
            </a:r>
            <a:r>
              <a:rPr b="1" lang="tr-TR" sz="4400" spc="-1" strike="noStrike">
                <a:solidFill>
                  <a:srgbClr val="ffffcc"/>
                </a:solidFill>
                <a:latin typeface="Verdana"/>
              </a:rPr>
              <a:t>. </a:t>
            </a:r>
            <a:r>
              <a:rPr b="0" lang="tr-TR" sz="4400" spc="-1" strike="noStrike">
                <a:solidFill>
                  <a:srgbClr val="ffffcc"/>
                </a:solidFill>
                <a:latin typeface="Verdana"/>
              </a:rPr>
              <a:t>İstanbul: Çantay yay. 2003.</a:t>
            </a:r>
            <a:br>
              <a:rPr sz="4400"/>
            </a:br>
            <a:r>
              <a:rPr b="0" lang="tr-TR" sz="4400" spc="-1" strike="noStrike">
                <a:solidFill>
                  <a:srgbClr val="ffffcc"/>
                </a:solidFill>
                <a:latin typeface="Verdana"/>
              </a:rPr>
              <a:t>Türker Baş. </a:t>
            </a:r>
            <a:r>
              <a:rPr b="1" lang="tr-TR" sz="4400" spc="-1" strike="noStrike">
                <a:solidFill>
                  <a:srgbClr val="ffff00"/>
                </a:solidFill>
                <a:latin typeface="Verdana"/>
              </a:rPr>
              <a:t>Anket</a:t>
            </a:r>
            <a:r>
              <a:rPr b="0" lang="tr-TR" sz="4400" spc="-1" strike="noStrike">
                <a:solidFill>
                  <a:srgbClr val="ffffcc"/>
                </a:solidFill>
                <a:latin typeface="Verdana"/>
              </a:rPr>
              <a:t>. Seçkin Yayıncılık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ket, sistematik bir veri toplama yöntemidir. Veriler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önceden belirlenmi</a:t>
            </a:r>
            <a:r>
              <a:rPr b="1" lang="tr-TR" sz="4000" spc="-1" strike="noStrike">
                <a:solidFill>
                  <a:srgbClr val="ffff00"/>
                </a:solidFill>
                <a:latin typeface="Times New Roman"/>
              </a:rPr>
              <a:t>ş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insanlara bir dizi soru sorarak elde edilir.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ket yöntemi ile çok farkl</a:t>
            </a:r>
            <a:r>
              <a:rPr b="1" lang="tr-TR" sz="4000" spc="-1" strike="noStrike">
                <a:solidFill>
                  <a:srgbClr val="ffff00"/>
                </a:solidFill>
                <a:latin typeface="Times New Roman"/>
              </a:rPr>
              <a:t>ı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türde veri toplamak mümkündür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5200" spc="-1" strike="noStrike">
                <a:solidFill>
                  <a:srgbClr val="ffff00"/>
                </a:solidFill>
                <a:latin typeface="Times New Roman"/>
              </a:rPr>
              <a:t>nketler, az detaylı</a:t>
            </a:r>
            <a:br>
              <a:rPr sz="5200"/>
            </a:br>
            <a:r>
              <a:rPr b="1" lang="en-US" sz="5200" spc="-1" strike="noStrike">
                <a:solidFill>
                  <a:srgbClr val="ffff00"/>
                </a:solidFill>
                <a:latin typeface="Times New Roman"/>
              </a:rPr>
              <a:t>veri sağlamalarına rağmen, kısa zamanda büyük</a:t>
            </a:r>
            <a:br>
              <a:rPr sz="5200"/>
            </a:br>
            <a:r>
              <a:rPr b="1" lang="en-US" sz="5200" spc="-1" strike="noStrike">
                <a:solidFill>
                  <a:srgbClr val="ffff00"/>
                </a:solidFill>
                <a:latin typeface="Times New Roman"/>
              </a:rPr>
              <a:t>miktarlarda veri toplanmak için uygundurlar.</a:t>
            </a:r>
            <a:endParaRPr b="0" lang="en-US" sz="5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ffff00"/>
                </a:solidFill>
                <a:latin typeface="Times New Roman"/>
              </a:rPr>
              <a:t>Anketler ikiye ayrılır</a:t>
            </a:r>
            <a:br>
              <a:rPr sz="5400"/>
            </a:br>
            <a:r>
              <a:rPr b="0" i="1" lang="tr-TR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tr-TR" sz="3600" spc="-1" strike="noStrike">
                <a:solidFill>
                  <a:srgbClr val="ffffcc"/>
                </a:solidFill>
                <a:latin typeface="Arial"/>
              </a:rPr>
              <a:t>Yapılandırılmamış (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</a:rPr>
              <a:t>Unstructured</a:t>
            </a:r>
            <a:r>
              <a:rPr b="1" i="1" lang="tr-TR" sz="3600" spc="-1" strike="noStrike">
                <a:solidFill>
                  <a:srgbClr val="ffffcc"/>
                </a:solidFill>
                <a:latin typeface="Arial"/>
              </a:rPr>
              <a:t>):</a:t>
            </a:r>
            <a:r>
              <a:rPr b="0" i="1" lang="tr-TR" sz="3600" spc="-1" strike="noStrike">
                <a:solidFill>
                  <a:srgbClr val="ffffcc"/>
                </a:solidFill>
                <a:latin typeface="Arial"/>
              </a:rPr>
              <a:t> Bir kompozisyon halinde yazdırma veya serbestçe listeletme) veya açık uçlu sorularla</a:t>
            </a:r>
            <a:br>
              <a:rPr sz="3600"/>
            </a:br>
            <a:r>
              <a:rPr b="1" i="1" lang="tr-TR" sz="3600" spc="-1" strike="noStrike">
                <a:solidFill>
                  <a:srgbClr val="ffffcc"/>
                </a:solidFill>
                <a:latin typeface="Arial"/>
              </a:rPr>
              <a:t>Yapılandırılmış (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</a:rPr>
              <a:t>Structured</a:t>
            </a:r>
            <a:r>
              <a:rPr b="1" i="1" lang="tr-TR" sz="3600" spc="-1" strike="noStrike">
                <a:solidFill>
                  <a:srgbClr val="ffffcc"/>
                </a:solidFill>
                <a:latin typeface="Arial"/>
              </a:rPr>
              <a:t>):</a:t>
            </a:r>
            <a:r>
              <a:rPr b="0" i="1" lang="tr-TR" sz="3600" spc="-1" strike="noStrike">
                <a:solidFill>
                  <a:srgbClr val="ffffcc"/>
                </a:solidFill>
                <a:latin typeface="Arial"/>
              </a:rPr>
              <a:t> Cevapları şıklar haline getirilmiş sorularl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00"/>
                </a:solidFill>
                <a:latin typeface="Times New Roman"/>
              </a:rPr>
              <a:t>Yapılandırımış ankletler ya Likert tipi bir skala ile ya da çoktan seçmeli cevap seçenekleri ile veri toplar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cc"/>
                </a:solidFill>
                <a:latin typeface="Times New Roman"/>
              </a:rPr>
              <a:t>Kapalı uçlu sorular (sınıflayıcı türde ölçüm yapan sorular), dercelendirme ölçekleri (Likert tarzı ölçekler, zıt anlam ölçekleri, sıralayıcı ölçekler ve Thurstone ölçekleri) kullanırlar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ket Maddelerinin Oluşturulması</a:t>
            </a:r>
            <a:br>
              <a:rPr sz="3600"/>
            </a:b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Araştırma konusunda a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lınıza gelen her şeyi not edin.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şlangıçta fazla madde olması iyidir. Mükemmel soru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h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zırlamaya odaklanmayın.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İlk başta, tüm konulara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eğinmek önemlidir. Anket maddelerini oluşturmak için,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eyin fırtınası, ağaç diyagramları ve diğer fikir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üreten metotlar yararlı olacaktı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ir anket maddesinin taşıması gereken özellikler</a:t>
            </a:r>
            <a:br>
              <a:rPr sz="3600"/>
            </a:b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çıkça yazılm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a: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İfadeler net olmalı ve kolay anlaşılabilmelidir.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knik terim, kısaltma ve jargonları kullanmaktan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açının.</a:t>
            </a:r>
            <a:br>
              <a:rPr sz="3600"/>
            </a:b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ısa</a:t>
            </a:r>
            <a:r>
              <a:rPr b="1" lang="tr-TR" sz="3600" spc="-1" strike="noStrike">
                <a:solidFill>
                  <a:srgbClr val="ffff00"/>
                </a:solidFill>
                <a:latin typeface="Times New Roman"/>
              </a:rPr>
              <a:t> olma: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nketin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addelerini yanıtlayan kişinin dikkati dağılmaması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ve ankete konsantre olabilmesi için konu dışı</a:t>
            </a:r>
            <a:r>
              <a:rPr b="1" lang="tr-T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elimeleri ve fikirleri ortadan kaldırı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6491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cc"/>
                </a:solidFill>
                <a:latin typeface="Arial"/>
              </a:rPr>
              <a:t>Bilimsel Araştırma Yöntemleri                      Prof.Dr. Mustafa Ergün              AKÜ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8:22:50Z</dcterms:created>
  <dc:creator>Mustafa Ergun</dc:creator>
  <dc:description/>
  <dc:language>en-US</dc:language>
  <cp:lastModifiedBy>Mustafa Ergun</cp:lastModifiedBy>
  <dcterms:modified xsi:type="dcterms:W3CDTF">2003-12-15T14:46:11Z</dcterms:modified>
  <cp:revision>29</cp:revision>
  <dc:subject/>
  <dc:title>BİLİMSEL ARAŞTIRMA YÖNTEMLERİ</dc:title>
</cp:coreProperties>
</file>